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A4A-138C-44B0-8D2E-A201A39C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2D0-5C77-41E8-B17E-E1EB2920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5B5-07AF-471F-8B35-550338C9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4D9-B19E-47CF-9024-8B4AA282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EB3C-414F-41EF-9998-E3116C8F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0666-E51D-4904-9BD6-9476F316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710A-6CBF-482E-8D77-8EC5D3F4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168B-B825-4469-A11E-8BEBE480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CFA4-EDEE-4CCA-9EAF-220D6475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8039-579D-4AC3-A12E-82B22D9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85B6-37BC-4D6E-A99A-513F12DA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F5A-C4B1-43E8-BDB5-9D102655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4C5D-5462-41C8-A35A-3E859687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890C-B13E-4876-B1B7-2D267C0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B90F-428A-4129-8A51-B64DF535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CDE-FE3F-41E0-9822-A1E1ABE7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E958-5027-45A2-8A1E-31425703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E5D-6259-4EA6-A29B-E01EEAE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7B0-C8F9-44DF-9E3A-39FDA028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B8D-B299-4E3A-86CE-5CBE7E1D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563-9B77-4204-9F42-77137444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6A0-CEEB-44E9-AB26-76BEB1AA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950-798B-4CFE-99AC-A9CF5D8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CC4-2783-43FF-8459-64D279B8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8938-466A-4C61-9A14-AF0C3C73A84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B7F-3796-4ED9-88D1-0F6E657074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usatoday.com/news/_photos/2006/12/27/polar-topper.jpg&amp;imgrefurl=http://www.usatoday.com/news/washington/2006-12-27-polar-bears_x.htm&amp;h=310&amp;w=472&amp;sz=30&amp;hl=en&amp;start=8&amp;tbnid=JInjTjEYfzGI7M:&amp;tbnh=85&amp;tbnw=129&amp;prev=/images%3Fq%3Dpolar%2Bbear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f/f5/Polar_bears_near_north_pole.jpg/800px-Polar_bears_near_north_pole.jpg&amp;imgrefurl=http://commons.wikimedia.org/wiki/Image:Polar_bears_near_north_pole.jpg&amp;h=600&amp;w=800&amp;sz=135&amp;hl=en&amp;start=63&amp;tbnid=JX4pGGFyf0cTUM:&amp;tbnh=107&amp;tbnw=143&amp;prev=/images%3Fq%3Dpolar%2Bbears%26start%3D60%26gbv%3D2%26ndsp%3D20%26hl%3D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aska-in-pictures.com/data/media/2/polar-bear-and-cub_2942.jpg&amp;imgrefurl=http://www.alaska-in-pictures.com/polar-bear-and-cub-2942-pictures.htm&amp;h=315&amp;w=468&amp;sz=30&amp;hl=en&amp;start=60&amp;tbnid=w5gxTGeWjWYZJM:&amp;tbnh=86&amp;tbnw=128&amp;prev=/images%3Fq%3Dpolar%2Bbears%26start%3D4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wscientist.com/blog/shortsharpscience/uploaded_images/grolar-777201.jpg&amp;imgrefurl=http://www.newscientist.com/blog/shortsharpscience/2006/05/grizzly-end-for-polar-bear-crossbreed.html&amp;h=332&amp;w=450&amp;sz=26&amp;hl=en&amp;start=52&amp;tbnid=R1nC9g0Ci2ECzM:&amp;tbnh=94&amp;tbnw=127&amp;prev=/images%3Fq%3Dpolar%2Bbears%26start%3D4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xzooberance.com/virtual%2520zoo/they%2520walk/polar%2520bear/Polar%2520Bear%252042090.jpg&amp;imgrefurl=http://www.exzooberance.com/virtual%2520zoo/they%2520walk/polar%2520bear/polar%2520bear.htm&amp;h=512&amp;w=768&amp;sz=75&amp;hl=en&amp;start=89&amp;tbnid=mWyGnihjuTCPoM:&amp;tbnh=95&amp;tbnw=142&amp;prev=/images%3Fq%3Dpolar%2Bbears%26start%3D8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limateprogress.org/wp-content/uploads/2007/05/polar-bear-tongue.jpeg&amp;imgrefurl=http://climateprogress.org/2007/05/31/more-humor-george-bush-climate-activist/&amp;h=399&amp;w=410&amp;sz=24&amp;hl=en&amp;start=3&amp;tbnid=zQ2jqArMno775M:&amp;tbnh=122&amp;tbnw=125&amp;prev=/images%3Fq%3Dpolar%2Bbears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Bea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lleigh Townse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know about Polar Bears? Listen to me and you can read about them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1240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olar Bears are carnivores that live in the arcti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have thick fur to stay warm and a layer of blubber helps them to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eat seals to stay al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962520"/>
            <a:ext cx="1590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Bears are very powerful and strong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have claws to defend themselv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could also blend in with the sno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52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Bears have ways to communicate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growl, hiss and show their teeth and lower their heads and 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ople are Polar Bears’ main enemy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 have hunted Polar Bears for thousands of y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 came from far places to hunt Polar Bears for spo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6483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Bears dig dens for protectio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dig dens when It’s too cold to hunt for foo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505320"/>
            <a:ext cx="1504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 hope you had fun learning about Polar Bear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286000"/>
            <a:ext cx="28051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14:53Z</dcterms:modified>
  <cp:revision>4</cp:revision>
  <dc:subject/>
  <dc:title>Animal Name</dc:title>
</cp:coreProperties>
</file>